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5404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4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516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964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516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964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71040" y="490320"/>
            <a:ext cx="779148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1040" y="415404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0516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39640" y="190656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7104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0516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39640" y="4154040"/>
            <a:ext cx="2508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040" y="490320"/>
            <a:ext cx="779148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440" y="415404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440" y="1906560"/>
            <a:ext cx="380196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54040"/>
            <a:ext cx="7791480" cy="20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6360" cy="2662200"/>
            <a:chOff x="0" y="0"/>
            <a:chExt cx="9126360" cy="2662200"/>
          </a:xfrm>
        </p:grpSpPr>
        <p:graphicFrame>
          <p:nvGraphicFramePr>
            <p:cNvPr id="1" name=""/>
            <p:cNvGraphicFramePr/>
            <p:nvPr/>
          </p:nvGraphicFramePr>
          <p:xfrm>
            <a:off x="0" y="0"/>
            <a:ext cx="9126360" cy="26622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9126360" cy="26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7145640" y="835920"/>
              <a:ext cx="1980360" cy="63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609120" y="835920"/>
              <a:ext cx="6039000" cy="66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490320"/>
            <a:ext cx="779148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7914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25400" indent="-268200">
              <a:spcBef>
                <a:spcPts val="799"/>
              </a:spcBef>
              <a:buClr>
                <a:srgbClr val="000099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0760" y="1665360"/>
            <a:ext cx="849636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80099"/>
                </a:solidFill>
                <a:latin typeface="Times New Roman"/>
              </a:rPr>
              <a:t>MINISTÉRIO DO 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80099"/>
                </a:solidFill>
                <a:latin typeface="Times New Roman"/>
              </a:rPr>
              <a:t>Secretaria de Recursos Hídr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Projeto DeltAme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GEF / PNUMA / OEA / SR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Brasília, dez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941560" y="4357800"/>
            <a:ext cx="3879720" cy="795240"/>
            <a:chOff x="2941560" y="4357800"/>
            <a:chExt cx="3879720" cy="79524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2941560" y="4357800"/>
              <a:ext cx="794880" cy="7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4982040" y="4358880"/>
              <a:ext cx="9316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3808080" y="4358880"/>
              <a:ext cx="11008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6013440" y="4358880"/>
              <a:ext cx="807840" cy="7923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00040" y="2286000"/>
            <a:ext cx="8143920" cy="3662640"/>
            <a:chOff x="500040" y="2286000"/>
            <a:chExt cx="8143920" cy="3662640"/>
          </a:xfrm>
        </p:grpSpPr>
        <p:sp>
          <p:nvSpPr>
            <p:cNvPr id="108" name=""/>
            <p:cNvSpPr/>
            <p:nvPr/>
          </p:nvSpPr>
          <p:spPr>
            <a:xfrm>
              <a:off x="500040" y="2286000"/>
              <a:ext cx="8143920" cy="2317680"/>
            </a:xfrm>
            <a:prstGeom prst="roundRect">
              <a:avLst>
                <a:gd name="adj" fmla="val 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0040" y="2286000"/>
              <a:ext cx="8143920" cy="366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Papel da SRH/MMA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Secretaria de Recursos Hídricos d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inistério do Meio Ambiente dá o apoio logístico ao desenvolvimento do Projeto 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articipa da supervisã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as atividades de implementação do mesm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1565280"/>
            <a:ext cx="8146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80099"/>
                </a:solidFill>
                <a:latin typeface="Arial"/>
              </a:rPr>
              <a:t>Fases do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íodo Inicial: 18/03/2003 a 18/01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rrogação:até 20 de dezembro de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poio Logístico do Desenvolvimento d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retaria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stério do 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gência Executora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zação dos Estados Americanos - O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ontribuição Financeira do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$ 972.000 (Recurso do GE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1440" y="1828800"/>
            <a:ext cx="8597880" cy="44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99"/>
                </a:solidFill>
                <a:latin typeface="Arial"/>
              </a:rPr>
              <a:t>Instituições Envolv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buSzPct val="100000"/>
              <a:buBlip>
                <a:blip r:embed="rId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retaria de Recursos Hídricos do Ministério do Meio Ambiente (SRH-M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ção dos Estados Americanos - O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ros Organismos: Sub-Secretaria de Recursos Hídricos (SSRH) - 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o de Recursos Naturais do Ministério da Agricultura (INRENA) - Pe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5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 Regional de Recursos Hídricos (CRRH) - Costa 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6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Environment and Health (CEHI) - St. Lu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7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 for Environmental Studies/Florida Atlantic University (CES-FAU) –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ções técnicas e organizações não governamentais que atuam em temas relacionados com o uso e a gestão dos recursos hídricos, visando envolvê-las na troca de experiências e na alimentação de informações nos sítios web da Rede Interamericana de Recursos Hídri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1828800"/>
            <a:ext cx="848844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 algn="ctr">
              <a:lnSpc>
                <a:spcPct val="93000"/>
              </a:lnSpc>
              <a:tabLst>
                <a:tab algn="l" pos="0"/>
                <a:tab algn="l" pos="1699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lataforma web da RI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93000"/>
              </a:lnSpc>
              <a:tabLst>
                <a:tab algn="l" pos="0"/>
                <a:tab algn="l" pos="1699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93000"/>
              </a:lnSpc>
              <a:buSzPct val="102884"/>
              <a:buBlip>
                <a:blip r:embed="rId1"/>
              </a:buBlip>
              <a:tabLst>
                <a:tab algn="l" pos="1699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Nó Central ou Portal da RI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93000"/>
              </a:lnSpc>
              <a:tabLst>
                <a:tab algn="l" pos="0"/>
                <a:tab algn="l" pos="1699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1699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Nós Regionais: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Brasil,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Cone Sul,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Pacífico Sul e Amazônia, Meso América, Ca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93000"/>
              </a:lnSpc>
              <a:tabLst>
                <a:tab algn="l" pos="0"/>
                <a:tab algn="l" pos="1699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1699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Bancos de dados interrelacionados e articulados no Nó Central, que otimizarão pesquisa na Internet no tema Á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93000"/>
              </a:lnSpc>
              <a:tabLst>
                <a:tab algn="l" pos="0"/>
                <a:tab algn="l" pos="1699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16992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mbiente de discussão privilegiado, com Fóruns Virtuais abertos e privados, com possibilidade para conferência eletrônica (e-conferê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828800"/>
            <a:ext cx="848844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ctr">
              <a:lnSpc>
                <a:spcPct val="93000"/>
              </a:lnSpc>
              <a:tabLst>
                <a:tab algn="l" pos="0"/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80099"/>
                </a:solidFill>
                <a:latin typeface="Arial"/>
              </a:rPr>
              <a:t>Plataforma web da RI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ctr">
              <a:lnSpc>
                <a:spcPct val="93000"/>
              </a:lnSpc>
              <a:tabLst>
                <a:tab algn="l" pos="0"/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ctr">
              <a:lnSpc>
                <a:spcPct val="93000"/>
              </a:lnSpc>
              <a:tabLst>
                <a:tab algn="l" pos="0"/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80099"/>
                </a:solidFill>
                <a:latin typeface="Arial"/>
              </a:rPr>
              <a:t>Principais característ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3000"/>
              </a:lnSpc>
              <a:tabLst>
                <a:tab algn="l" pos="0"/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3000"/>
              </a:lnSpc>
              <a:buSzPct val="102884"/>
              <a:buBlip>
                <a:blip r:embed="rId1"/>
              </a:buBlip>
              <a:tabLst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ede aberta, moderada, com administração própria em cada nó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3000"/>
              </a:lnSpc>
              <a:buSzPct val="102884"/>
              <a:buBlip>
                <a:blip r:embed="rId2"/>
              </a:buBlip>
              <a:tabLst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3000"/>
              </a:lnSpc>
              <a:buSzPct val="102884"/>
              <a:buBlip>
                <a:blip r:embed="rId3"/>
              </a:buBlip>
              <a:tabLst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Sítios dinâmicos, com alimentação distribuí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3000"/>
              </a:lnSpc>
              <a:buSzPct val="102884"/>
              <a:buBlip>
                <a:blip r:embed="rId4"/>
              </a:buBlip>
              <a:tabLst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3000"/>
              </a:lnSpc>
              <a:buSzPct val="102884"/>
              <a:buBlip>
                <a:blip r:embed="rId5"/>
              </a:buBlip>
              <a:tabLst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Atualização automática do nó central - Portal da RIR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3000"/>
              </a:lnSpc>
              <a:buSzPct val="102884"/>
              <a:buBlip>
                <a:blip r:embed="rId6"/>
              </a:buBlip>
              <a:tabLst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3000"/>
              </a:lnSpc>
              <a:buSzPct val="102884"/>
              <a:buBlip>
                <a:blip r:embed="rId7"/>
              </a:buBlip>
              <a:tabLst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Conselhos </a:t>
            </a:r>
            <a:r>
              <a:rPr b="0" i="1" lang="en-GB" sz="2400" spc="-1" strike="noStrike">
                <a:solidFill>
                  <a:srgbClr val="003399"/>
                </a:solidFill>
                <a:latin typeface="Arial"/>
              </a:rPr>
              <a:t>web-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ditor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93000"/>
              </a:lnSpc>
              <a:tabLst>
                <a:tab algn="l" pos="0"/>
                <a:tab algn="l" pos="235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1440" y="1398600"/>
            <a:ext cx="859788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99"/>
                </a:solidFill>
                <a:latin typeface="Times New Roman"/>
              </a:rPr>
              <a:t>Nó Regional Cone Sul – outubro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9000" y="1928880"/>
            <a:ext cx="698508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1440" y="1398600"/>
            <a:ext cx="859788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0099"/>
                </a:solidFill>
                <a:latin typeface="Times New Roman"/>
              </a:rPr>
              <a:t>Nó Regional Brasil – dezembro d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8520" y="1979640"/>
            <a:ext cx="6680160" cy="47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0280" y="1665360"/>
            <a:ext cx="8731440" cy="49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80099"/>
                </a:solidFill>
                <a:latin typeface="Times New Roman"/>
              </a:rPr>
              <a:t>MINISTÉRIO DO 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80099"/>
                </a:solidFill>
                <a:latin typeface="Times New Roman"/>
              </a:rPr>
              <a:t>Secretaria de Recursos Hídri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Times New Roman"/>
              </a:rPr>
              <a:t>Feliz Natal e um Ano Novo muito Próspero, Alegre e Saudável para Todos e Tod@s 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b80047"/>
                </a:solidFill>
                <a:latin typeface="Times New Roman"/>
              </a:rPr>
              <a:t>Carpe Diem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Brasília, dezembro d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19040" y="1752480"/>
            <a:ext cx="8382240" cy="41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JETO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DELTA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ENVOLVIMENTO E IMPLEMENTAÇÃO DE MECANISMOS PARA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SSEMINAR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XPERIÊNCIAS E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ÇÕES APRENDIDAS NA GESTÃO INTEGRADA DE RECURSOS HÍDRICOS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NSFRONTERIÇOS NA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MÉRICA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LATINA E NO CARI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52280" y="1676520"/>
            <a:ext cx="8991360" cy="4994280"/>
            <a:chOff x="152280" y="1676520"/>
            <a:chExt cx="8991360" cy="4994280"/>
          </a:xfrm>
        </p:grpSpPr>
        <p:sp>
          <p:nvSpPr>
            <p:cNvPr id="87" name=""/>
            <p:cNvSpPr/>
            <p:nvPr/>
          </p:nvSpPr>
          <p:spPr>
            <a:xfrm>
              <a:off x="152280" y="1676520"/>
              <a:ext cx="8991360" cy="4152960"/>
            </a:xfrm>
            <a:prstGeom prst="roundRect">
              <a:avLst>
                <a:gd name="adj" fmla="val 3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2280" y="1676520"/>
              <a:ext cx="8991360" cy="49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 algn="ctr">
                <a:lnSpc>
                  <a:spcPct val="85000"/>
                </a:lnSpc>
                <a:tabLst>
                  <a:tab algn="l" pos="0"/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003399"/>
                  </a:solidFill>
                  <a:latin typeface="Arial"/>
                </a:rPr>
                <a:t>Antecedentes e Relações com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 algn="ctr">
                <a:lnSpc>
                  <a:spcPct val="85000"/>
                </a:lnSpc>
                <a:tabLst>
                  <a:tab algn="l" pos="0"/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pt-BR" sz="3000" spc="-1" strike="noStrike">
                  <a:solidFill>
                    <a:srgbClr val="003399"/>
                  </a:solidFill>
                  <a:latin typeface="Arial"/>
                </a:rPr>
                <a:t>Planos de Ação e Programas Regionai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 algn="ctr">
                <a:lnSpc>
                  <a:spcPct val="100000"/>
                </a:lnSpc>
                <a:tabLst>
                  <a:tab algn="l" pos="0"/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buSzPct val="112113"/>
                <a:buBlip>
                  <a:blip r:embed="rId1"/>
                </a:buBlip>
                <a:tabLst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Criação da Rede Inter-Americana de Recursos Hídricos  (RIRH), Miami, 199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spcBef>
                  <a:spcPts val="901"/>
                </a:spcBef>
                <a:buSzPct val="112113"/>
                <a:buBlip>
                  <a:blip r:embed="rId2"/>
                </a:buBlip>
                <a:tabLst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Plano de Ação para o Desenvolvimento Sustentável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tabLst>
                  <a:tab algn="l" pos="0"/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Reunião de Cúpula, Santa Cruz de la Sierra, Bolívia, 199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spcBef>
                  <a:spcPts val="901"/>
                </a:spcBef>
                <a:buSzPct val="112113"/>
                <a:buBlip>
                  <a:blip r:embed="rId3"/>
                </a:buBlip>
                <a:tabLst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Diálogos Inter-Americanos sobre Gestão de Águas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tabLst>
                  <a:tab algn="l" pos="0"/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Miami, 1994; Buenos Aires, 1996; Panamá, 1998; F.do Iguaçu, 200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spcBef>
                  <a:spcPts val="901"/>
                </a:spcBef>
                <a:buSzPct val="112113"/>
                <a:buBlip>
                  <a:blip r:embed="rId4"/>
                </a:buBlip>
                <a:tabLst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Visão Regional das Américas sobre a Água,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tabLst>
                  <a:tab algn="l" pos="0"/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	</a:t>
              </a: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Fórum Mundial da Água, Japão, 2003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spcBef>
                  <a:spcPts val="901"/>
                </a:spcBef>
                <a:buSzPct val="112113"/>
                <a:buBlip>
                  <a:blip r:embed="rId5"/>
                </a:buBlip>
                <a:tabLst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Convenção de Combate à Desertificação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spcBef>
                  <a:spcPts val="901"/>
                </a:spcBef>
                <a:buSzPct val="112113"/>
                <a:buBlip>
                  <a:blip r:embed="rId6"/>
                </a:buBlip>
                <a:tabLst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Metas do Milênio,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9920" indent="-169920">
                <a:lnSpc>
                  <a:spcPct val="85000"/>
                </a:lnSpc>
                <a:spcBef>
                  <a:spcPts val="901"/>
                </a:spcBef>
                <a:buSzPct val="112113"/>
                <a:buBlip>
                  <a:blip r:embed="rId7"/>
                </a:buBlip>
                <a:tabLst>
                  <a:tab algn="l" pos="16992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pt-BR" sz="2200" spc="-1" strike="noStrike">
                  <a:solidFill>
                    <a:srgbClr val="003399"/>
                  </a:solidFill>
                  <a:latin typeface="Arial"/>
                </a:rPr>
                <a:t>Projetos GEF e Programa GEF IW:LEARN (Águas Transfronteiriça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04920" y="1752480"/>
            <a:ext cx="8458200" cy="4234680"/>
            <a:chOff x="304920" y="1752480"/>
            <a:chExt cx="8458200" cy="4234680"/>
          </a:xfrm>
        </p:grpSpPr>
        <p:sp>
          <p:nvSpPr>
            <p:cNvPr id="90" name=""/>
            <p:cNvSpPr/>
            <p:nvPr/>
          </p:nvSpPr>
          <p:spPr>
            <a:xfrm>
              <a:off x="304920" y="1752480"/>
              <a:ext cx="8458200" cy="3436920"/>
            </a:xfrm>
            <a:prstGeom prst="roundRect">
              <a:avLst>
                <a:gd name="adj" fmla="val 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4920" y="1752480"/>
              <a:ext cx="8458200" cy="42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99"/>
                  </a:solidFill>
                  <a:latin typeface="Arial"/>
                </a:rPr>
                <a:t>Objetivos do Proje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99"/>
                  </a:solidFill>
                  <a:latin typeface="Arial"/>
                </a:rPr>
                <a:t>1. Desenvolver e implementar mecanismos para disseminar experiências e lições aprendidas na gestão integrada de recursos hídricos na América Latina e no Caribe, relacionados com águas transfronteiriças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04920" y="1752480"/>
            <a:ext cx="8591400" cy="3875400"/>
            <a:chOff x="304920" y="1752480"/>
            <a:chExt cx="8591400" cy="3875400"/>
          </a:xfrm>
        </p:grpSpPr>
        <p:sp>
          <p:nvSpPr>
            <p:cNvPr id="93" name=""/>
            <p:cNvSpPr/>
            <p:nvPr/>
          </p:nvSpPr>
          <p:spPr>
            <a:xfrm>
              <a:off x="304920" y="1752480"/>
              <a:ext cx="8591400" cy="3436920"/>
            </a:xfrm>
            <a:prstGeom prst="roundRect">
              <a:avLst>
                <a:gd name="adj" fmla="val 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4920" y="1752480"/>
              <a:ext cx="8591400" cy="38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99"/>
                  </a:solidFill>
                  <a:latin typeface="Arial"/>
                </a:rPr>
                <a:t>Objetivos do Projeto (cont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99"/>
                  </a:solidFill>
                  <a:latin typeface="Arial"/>
                </a:rPr>
                <a:t>2. Apoiar o aperfeiçoamento de políticas públicas para a Gestão Integrada de Recursos Hídricos no países membros da OEA, com base na troca de experiências e informação sobre lições aprendidas em projeto GEF e outros;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04920" y="1752480"/>
            <a:ext cx="8439120" cy="3673800"/>
            <a:chOff x="304920" y="1752480"/>
            <a:chExt cx="8439120" cy="3673800"/>
          </a:xfrm>
        </p:grpSpPr>
        <p:sp>
          <p:nvSpPr>
            <p:cNvPr id="96" name=""/>
            <p:cNvSpPr/>
            <p:nvPr/>
          </p:nvSpPr>
          <p:spPr>
            <a:xfrm>
              <a:off x="304920" y="1752480"/>
              <a:ext cx="8439120" cy="3436920"/>
            </a:xfrm>
            <a:prstGeom prst="roundRect">
              <a:avLst>
                <a:gd name="adj" fmla="val 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1752480"/>
              <a:ext cx="8439120" cy="36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99"/>
                  </a:solidFill>
                  <a:latin typeface="Arial"/>
                </a:rPr>
                <a:t>Objetivos do Projeto (cont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99"/>
                  </a:solidFill>
                  <a:latin typeface="Arial"/>
                </a:rPr>
                <a:t>3. Criar um ambiente propício para a realização da Terceira Conferência Internacional GEF sobre Águas Transfronteiriças, no Brasil, no primeiro trimestre de 2005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3611"/>
                </a:lnSpc>
                <a:spcBef>
                  <a:spcPts val="10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04920" y="1752480"/>
            <a:ext cx="8667720" cy="4467240"/>
            <a:chOff x="304920" y="1752480"/>
            <a:chExt cx="8667720" cy="4467240"/>
          </a:xfrm>
        </p:grpSpPr>
        <p:sp>
          <p:nvSpPr>
            <p:cNvPr id="99" name=""/>
            <p:cNvSpPr/>
            <p:nvPr/>
          </p:nvSpPr>
          <p:spPr>
            <a:xfrm>
              <a:off x="304920" y="1752480"/>
              <a:ext cx="8667720" cy="3436920"/>
            </a:xfrm>
            <a:prstGeom prst="roundRect">
              <a:avLst>
                <a:gd name="adj" fmla="val 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4920" y="1752480"/>
              <a:ext cx="8667720" cy="44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99"/>
                  </a:solidFill>
                  <a:latin typeface="Arial"/>
                </a:rPr>
                <a:t>Objetivos do Projeto (cont.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3399"/>
                  </a:solidFill>
                  <a:latin typeface="Arial"/>
                </a:rPr>
                <a:t>4. Apoiar o desenvolvimento e a implementação de uma Agenda Inter-Americana em Recursos Hídricos, em preparação para o V Diálogo Inter-Americano sobre Gestão de Águas, a realizar-se na Jamaica em 2005, e IV  Fórum Mundial da Água, a realizar-se no México em 2006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3611"/>
                </a:lnSpc>
                <a:spcBef>
                  <a:spcPts val="104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235080" y="1731960"/>
            <a:ext cx="8743680" cy="4578840"/>
            <a:chOff x="235080" y="1731960"/>
            <a:chExt cx="8743680" cy="4578840"/>
          </a:xfrm>
        </p:grpSpPr>
        <p:sp>
          <p:nvSpPr>
            <p:cNvPr id="102" name=""/>
            <p:cNvSpPr/>
            <p:nvPr/>
          </p:nvSpPr>
          <p:spPr>
            <a:xfrm>
              <a:off x="235080" y="1731960"/>
              <a:ext cx="8743680" cy="3436920"/>
            </a:xfrm>
            <a:prstGeom prst="roundRect">
              <a:avLst>
                <a:gd name="adj" fmla="val 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5080" y="1731960"/>
              <a:ext cx="8743680" cy="45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99"/>
                  </a:solidFill>
                  <a:latin typeface="Arial"/>
                </a:rPr>
                <a:t>Expectativ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SzPct val="102884"/>
                <a:buBlip>
                  <a:blip r:embed="rId1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Promover a capacitação hemisférica, construindo-a sobre o conhecimento e experiência adquiridos através de projetos GEF-IW (Águas Transfronteiriças) na América Latina e Carib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SzPct val="102884"/>
                <a:buBlip>
                  <a:blip r:embed="rId2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Ampliar a troca de conhecimento, experiências e práticas bem sucedidas na gestão de recursos hídricos, entre instituições e organismos de bacias hidrográficas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SzPct val="102884"/>
                <a:buBlip>
                  <a:blip r:embed="rId3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Reforçar a colaboração entre países ribeirinhos para a implementação da gestão integrada de recursos hídricos transfronteiriços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901"/>
                </a:spcBef>
                <a:buSzPct val="102884"/>
                <a:buBlip>
                  <a:blip r:embed="rId4"/>
                </a:buBlip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Reforçar a Rede Inter-America de Recursos Hídric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35080" y="1731960"/>
            <a:ext cx="8743680" cy="4578840"/>
            <a:chOff x="235080" y="1731960"/>
            <a:chExt cx="8743680" cy="4578840"/>
          </a:xfrm>
        </p:grpSpPr>
        <p:sp>
          <p:nvSpPr>
            <p:cNvPr id="105" name=""/>
            <p:cNvSpPr/>
            <p:nvPr/>
          </p:nvSpPr>
          <p:spPr>
            <a:xfrm>
              <a:off x="235080" y="1731960"/>
              <a:ext cx="8743680" cy="3436920"/>
            </a:xfrm>
            <a:prstGeom prst="roundRect">
              <a:avLst>
                <a:gd name="adj" fmla="val 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5080" y="1731960"/>
              <a:ext cx="8743680" cy="457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5080" indent="-235080" algn="ctr">
                <a:lnSpc>
                  <a:spcPct val="93000"/>
                </a:lnSpc>
                <a:tabLst>
                  <a:tab algn="l" pos="0"/>
                  <a:tab algn="l" pos="2350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3399"/>
                  </a:solidFill>
                  <a:latin typeface="Arial"/>
                </a:rPr>
                <a:t>Instrum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5080" indent="-235080" algn="just">
                <a:lnSpc>
                  <a:spcPct val="93000"/>
                </a:lnSpc>
                <a:tabLst>
                  <a:tab algn="l" pos="0"/>
                  <a:tab algn="l" pos="2350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5080" indent="-235080">
                <a:lnSpc>
                  <a:spcPct val="90000"/>
                </a:lnSpc>
                <a:spcBef>
                  <a:spcPts val="901"/>
                </a:spcBef>
                <a:buSzPct val="102884"/>
                <a:buBlip>
                  <a:blip r:embed="rId1"/>
                </a:buBlip>
                <a:tabLst>
                  <a:tab algn="l" pos="2350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Diálogos Regionais, workshops temáticos e eventos multidisciplinare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5080" indent="-235080">
                <a:lnSpc>
                  <a:spcPct val="90000"/>
                </a:lnSpc>
                <a:spcBef>
                  <a:spcPts val="901"/>
                </a:spcBef>
                <a:buSzPct val="102884"/>
                <a:buBlip>
                  <a:blip r:embed="rId2"/>
                </a:buBlip>
                <a:tabLst>
                  <a:tab algn="l" pos="2350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Envolvimento de especialistas, nos países interessado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5080" indent="-235080">
                <a:lnSpc>
                  <a:spcPct val="90000"/>
                </a:lnSpc>
                <a:spcBef>
                  <a:spcPts val="901"/>
                </a:spcBef>
                <a:buSzPct val="102884"/>
                <a:buBlip>
                  <a:blip r:embed="rId3"/>
                </a:buBlip>
                <a:tabLst>
                  <a:tab algn="l" pos="2350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Foros virtuais, utilizando ferramentos de informação e comunicação desenvolvidas pelo Projeto para reforçar a Rede Interamericana de Recursos Hídrico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5080" indent="-235080">
                <a:lnSpc>
                  <a:spcPct val="90000"/>
                </a:lnSpc>
                <a:spcBef>
                  <a:spcPts val="901"/>
                </a:spcBef>
                <a:buSzPct val="102884"/>
                <a:buBlip>
                  <a:blip r:embed="rId4"/>
                </a:buBlip>
                <a:tabLst>
                  <a:tab algn="l" pos="23508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Novos sítios </a:t>
              </a:r>
              <a:r>
                <a:rPr b="0" i="1" lang="en-GB" sz="2400" spc="-1" strike="noStrike">
                  <a:solidFill>
                    <a:srgbClr val="003399"/>
                  </a:solidFill>
                  <a:latin typeface="Arial"/>
                </a:rPr>
                <a:t>web </a:t>
              </a: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da Rede Interamericana de Recursos Hídricos e de </a:t>
              </a:r>
              <a:r>
                <a:rPr b="1" lang="en-GB" sz="2400" spc="-1" strike="noStrike">
                  <a:solidFill>
                    <a:srgbClr val="003399"/>
                  </a:solidFill>
                  <a:latin typeface="Arial"/>
                </a:rPr>
                <a:t>nós regionais </a:t>
              </a:r>
              <a:r>
                <a:rPr b="0" lang="en-GB" sz="2400" spc="-1" strike="noStrike">
                  <a:solidFill>
                    <a:srgbClr val="003399"/>
                  </a:solidFill>
                  <a:latin typeface="Arial"/>
                </a:rPr>
                <a:t>“padronizados”, na Argentina (SSRH), no Brasil (SRH), e , possivelmente no Peru (INADE), Costa Rica (CRRH) e Santa Lucia (CEHI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gerio Barion</cp:lastModifiedBy>
  <dcterms:modified xsi:type="dcterms:W3CDTF">2004-12-20T11:01:50Z</dcterms:modified>
  <cp:revision>1</cp:revision>
  <dc:subject/>
  <dc:title>Slide sem título </dc:title>
</cp:coreProperties>
</file>